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436B-7C98-49C6-BCD5-6ED1EDB6F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714A-65CD-4460-AE42-DA83FEA3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0413-7BDE-4BF8-BBBD-5D7C6D6AA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720-AAF6-4CEE-8878-2B369976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8FC8-4A72-47AC-B6EF-34FF97F3C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D2F8-74EC-4089-A2C0-3F6510D6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4A85A-EF55-4FD8-BD83-3F7770D1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8661-3419-4363-9630-A94699EB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5BD2-D74F-49D4-9890-BDAE692A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D15A-F645-4A82-9BA6-BE1DC75E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9E7F-503C-4C46-8D1A-9B938179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9765-DB68-4864-9BCE-0534FA56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B1EA-55AF-45F8-9BF8-6B887450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BAE73-440B-4CAB-B265-077BC1A2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72EA-C941-4C88-89C0-A20ACDA4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4252-AA47-427E-9F65-0533F0C7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5D38-D779-4132-AE90-32272A21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44B3E-D632-4895-8421-16FF7379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8096E-D2C0-4607-9B7E-F134BD4B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C1AD2-D5DD-426E-8E0F-13A62398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7E368-731F-4CFB-85FE-177A490C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7EF7B-0054-43B2-8601-F5D63BE9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E328-C3B1-41B1-9A6C-F20AEB71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3BDFF-1E42-484F-8A6C-15D4BED1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74168-C94F-4CC2-A8FE-7DD60E97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3CAA0-BFD2-4825-BC64-6D89FF68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4850A-D298-4B05-A973-61FC9845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CBB29-990B-449A-88A7-3754C5C1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0B23D-285E-4122-826B-50115F7EF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2876B-17B0-44FB-A639-124AFA8D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A3FCB-F7A2-410F-B559-DC7C37F3B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3FC1D-5C0E-448D-B707-E2CDBABD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7F4BD-8EFC-419E-8402-37DD766F4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B53A-3E9B-4433-AAE4-1A0620F0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6B21D-B33A-42DB-9DE0-47B64430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3A196-A36A-4D20-8754-8AA9FD79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6B484-E1F3-40C0-9D45-4593D1A0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874F6-813A-4FED-856A-BAA16589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0A30E-D474-4996-AFF9-0BEC0327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D5666-C6C7-4E0D-8F3F-4ECE7D60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41C4D-9B00-4FD3-AC28-AFA68213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FDB8F-510F-4096-91D8-D2A950C2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93080-06B8-4832-B7AB-53761A6D1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D1E6B-62F2-4F39-8249-DDFAD445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6CD1-BE53-41A1-A62F-F72E3B55A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72328-A587-45F6-88E6-3AC23DD0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A8BB1-F6A8-4B34-90B3-242A33A2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C8D77-28A0-400D-BD7E-E90FBAE7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0BFF6-0259-4B70-A09E-75C63B78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83128-2929-4E81-878D-90D52C78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B3902-8A33-473A-ADCF-92CD9C95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3BDF7-2871-4684-B2FE-8B1B8050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9A48C3-243B-44D8-BB6E-66021AF8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A5FC7-5109-40BA-B5BC-B47F882F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0A0EA-6FCC-458E-A732-6A56C626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8EF-EF63-48DC-89E8-98BFB603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359AE-BDA2-4E51-A90D-01F7CCA0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844A0-54DF-4624-B15E-F5F885B1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6F70B-6432-435B-BB00-72293439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FFD0E-F3C8-47F3-82C8-4F54D342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2DCF9-AE61-430D-AE95-E8302DCE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EECBF-327C-40F1-B59C-A51F0BEE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BCAE8C-6405-4415-A240-AC564B18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F5BFE-46F1-49BF-A3C4-ECABD4AC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6D156-3A05-4D08-B5E5-02011653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F174B-D30C-4F96-A08A-2050DE04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E65F-31AC-4705-BE3C-40B34A67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019B6-12BC-423F-AE1A-7984E633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E8AB8-856E-4868-B52E-7310AD04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EB32B-8B0D-4462-8391-7A5B54C41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CA485A-BC4F-4BE7-80B9-0156B3E6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B8704-CB8E-4194-87F5-D4C3A390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59DC7-4098-4F37-A5B1-39E82642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6E73A-D6E7-4D8C-A177-BD600FD59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79865-2B84-4E1B-B4F7-4E54FE20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770C8-98E5-44F2-9200-F32268CF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8C1AC-5F95-42F9-9352-BF924FF7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7516-E08E-42CE-B9F3-6B7659C3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F8547-A284-4DAA-B09A-54508C01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8C390-0186-48EE-974F-A82F4C74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D9900-1373-4B7E-A3CF-C5FACD8D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D5A4C-5B90-444F-A5E8-AA5EBA8A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EA671-FED8-4551-A2F9-F87D1ACF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48118-DFAB-4473-B1A6-2C49308C5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D9143-17DA-4EFB-BA9D-CEA31D91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DD808-A968-4025-BE6F-46C34ABE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4E23B-62DA-484E-A416-BE550F1F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E65D3-ACC4-49E4-8E12-029BD20A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F92F-C10A-4331-919E-CB411736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BEC0D-30E7-4AF9-8A40-5EA4997E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29303-76D3-4789-BDC8-0028F9A5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CFD5A-B12C-4AC8-8E9F-47545E26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5517B-1BB7-4AE2-93C8-288329B9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54FB9-9435-438B-A324-A94EB10B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5D0DB-BD16-4ADB-ABF0-3FFCF8F8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07C93E-B8B0-4500-918A-3878DA76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F0A8-2059-42EB-9B50-A63490D6D5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32D0-5FE9-4302-BD68-7314B0AFB4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6D02-C2B4-4D2C-B0D0-DD96E4B843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499E-A173-4461-979F-7D1D6EE5F2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75AD-FB95-4C1B-A433-98A6315795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B49F-0649-4086-A182-1D3921B4D2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1D2B-1B4A-4456-8C49-E8E1F9446E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62B8-DF34-47D3-A334-EBCDC76463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swelch@nsf.gov" TargetMode="External"/><Relationship Id="rId2" Type="http://schemas.openxmlformats.org/officeDocument/2006/relationships/hyperlink" Target="mailto:vkass@nsf.gov" TargetMode="External"/><Relationship Id="rId3" Type="http://schemas.openxmlformats.org/officeDocument/2006/relationships/hyperlink" Target="mailto:pjennings@nsf.gov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Rectangle 2" descr=""/>
          <p:cNvPicPr/>
          <p:nvPr/>
        </p:nvPicPr>
        <p:blipFill>
          <a:blip r:embed="rId1"/>
          <a:stretch/>
        </p:blipFill>
        <p:spPr>
          <a:xfrm>
            <a:off x="682560" y="725400"/>
            <a:ext cx="8205840" cy="28656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Sandra Welch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464646"/>
                </a:solidFill>
                <a:latin typeface="Lucida Sans Unicode"/>
              </a:rPr>
              <a:t>Program Directo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1029" descr="C:\Documents and Settings\swelch\Desktop\nsflogo.gif"/>
          <p:cNvPicPr/>
          <p:nvPr/>
        </p:nvPicPr>
        <p:blipFill>
          <a:blip r:embed="rId2"/>
          <a:stretch/>
        </p:blipFill>
        <p:spPr>
          <a:xfrm>
            <a:off x="0" y="15228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ximum award- $150,00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y use film, TV, radio, web to disseminate research finding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laboration between NSF researchers and media experts strongly encourag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posals can be submitted at any ti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9FBF-57FE-4DDD-83E3-5585F29E164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6" name="Title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C:\Documents and Settings\swelch\Desktop\nsflogo.gif"/>
          <p:cNvPicPr/>
          <p:nvPr/>
        </p:nvPicPr>
        <p:blipFill>
          <a:blip r:embed="rId2"/>
          <a:stretch/>
        </p:blipFill>
        <p:spPr>
          <a:xfrm>
            <a:off x="7315200" y="50292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icadas and Forest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aired on WFYI)-used video footage from the research to produce a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cumentary film on periodical cicadas, DVD distribution to schools; an interactive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puter-based presentation,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-D animation of the cicada life cycle for use in a science cent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ea Chang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multimedia)-documents climate change research; video on website, podcasts, kiosks in science centers.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1178-1B43-460F-9D2E-975BB723AA5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1" name="Title 4" descr=""/>
          <p:cNvPicPr/>
          <p:nvPr/>
        </p:nvPicPr>
        <p:blipFill>
          <a:blip r:embed="rId1"/>
          <a:stretch/>
        </p:blipFill>
        <p:spPr>
          <a:xfrm>
            <a:off x="225360" y="298440"/>
            <a:ext cx="846792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Documents and Settings\swelch\Desktop\nsflogo.gif"/>
          <p:cNvPicPr/>
          <p:nvPr/>
        </p:nvPicPr>
        <p:blipFill>
          <a:blip r:embed="rId2"/>
          <a:stretch/>
        </p:blipFill>
        <p:spPr>
          <a:xfrm>
            <a:off x="7010280" y="526716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bout ISE project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46120" indent="-2008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tact:  Sandra Welch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46120" indent="-2008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swelch@nsf.gov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21120" indent="-224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bout CRPA propos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46120" indent="-2008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ontact:  Valentine Kass or Wyn Jenning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46120" indent="-2008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 u="sng">
                <a:solidFill>
                  <a:srgbClr val="ff8119"/>
                </a:solidFill>
                <a:uFillTx/>
                <a:latin typeface="Lucida Sans Unicode"/>
                <a:hlinkClick r:id="rId2"/>
              </a:rPr>
              <a:t>vkass@nsf.gov</a:t>
            </a: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; </a:t>
            </a:r>
            <a:r>
              <a:rPr b="0" lang="en-GB" sz="2300" spc="-1" strike="noStrike" u="sng">
                <a:solidFill>
                  <a:srgbClr val="ff8119"/>
                </a:solidFill>
                <a:uFillTx/>
                <a:latin typeface="Lucida Sans Unicode"/>
                <a:hlinkClick r:id="rId3"/>
              </a:rPr>
              <a:t>pjennings@nsf.gov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46120" indent="-2008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46120" indent="-200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NSF Solicitation #11546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46120" indent="-200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46120" indent="-2008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46120" indent="-2008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   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46120" indent="-2008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46120" indent="-2008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Footer Placeholder 1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Slide Number Placeholder 2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56D3-4CA9-4686-9284-6C6C001EB3F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26" name="Title 3" descr=""/>
          <p:cNvPicPr/>
          <p:nvPr/>
        </p:nvPicPr>
        <p:blipFill>
          <a:blip r:embed="rId4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C:\Documents and Settings\swelch\Desktop\nsflogo.gif"/>
          <p:cNvPicPr/>
          <p:nvPr/>
        </p:nvPicPr>
        <p:blipFill>
          <a:blip r:embed="rId5"/>
          <a:stretch/>
        </p:blipFill>
        <p:spPr>
          <a:xfrm>
            <a:off x="6705720" y="45720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llectual Mer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oader Impac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9833040" cy="1158840"/>
          </a:xfrm>
          <a:prstGeom prst="rect">
            <a:avLst/>
          </a:prstGeom>
          <a:ln w="0">
            <a:noFill/>
          </a:ln>
        </p:spPr>
      </p:pic>
      <p:sp>
        <p:nvSpPr>
          <p:cNvPr id="375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85EE-64C9-4DA5-8B97-0FA0A4A1C39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7" name="Picture 5" descr="C:\Documents and Settings\swelch\Desktop\nsflogo.gif"/>
          <p:cNvPicPr/>
          <p:nvPr/>
        </p:nvPicPr>
        <p:blipFill>
          <a:blip r:embed="rId2"/>
          <a:stretch/>
        </p:blipFill>
        <p:spPr>
          <a:xfrm>
            <a:off x="6705720" y="45720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1) How well does the activity advance discovery and understanding whil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romoting teaching, training and learning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2) How well does the proposed activity broaden the participation o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underrepresented group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3)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To what extent will it enhance the infrastructure for research 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Education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6A52-A43B-4242-8FF0-626041FF629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2" name="Picture 5" descr="C:\Documents and Settings\swelch\Desktop\nsflogo.gif"/>
          <p:cNvPicPr/>
          <p:nvPr/>
        </p:nvPicPr>
        <p:blipFill>
          <a:blip r:embed="rId2"/>
          <a:stretch/>
        </p:blipFill>
        <p:spPr>
          <a:xfrm>
            <a:off x="6705720" y="45720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4) 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ill the results be disseminated broadly to enhance scientific 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 </a:t>
            </a:r>
            <a:r>
              <a:rPr b="1" i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technological understanding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5) What may be the benefits of the proposed activity to society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5" name="Footer Placeholder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Slide Number Placeholder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71EC-71C9-4648-B45B-AF1A4B0E908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Picture 5" descr="C:\Documents and Settings\swelch\Desktop\nsflogo.gif"/>
          <p:cNvPicPr/>
          <p:nvPr/>
        </p:nvPicPr>
        <p:blipFill>
          <a:blip r:embed="rId2"/>
          <a:stretch/>
        </p:blipFill>
        <p:spPr>
          <a:xfrm>
            <a:off x="6705720" y="45720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ests in projects designed to increase public interest in, engagement with, and understanding of STEM. 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E Solicitaion #11-546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A134-D2F6-42A7-B41C-983BB2EEF10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1" name="Rectang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038" descr="C:\Documents and Settings\swelch\Desktop\nsflogo.gif"/>
          <p:cNvPicPr/>
          <p:nvPr/>
        </p:nvPicPr>
        <p:blipFill>
          <a:blip r:embed="rId2"/>
          <a:stretch/>
        </p:blipFill>
        <p:spPr>
          <a:xfrm>
            <a:off x="7238880" y="50292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luntary, self-direct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tivated by personal needs, interes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aped by prior knowledge, experie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diated by social/cultural contex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umulative, lifelong proc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29C1-C2E6-4F27-A34F-967F97EAF9F4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5" descr="C:\Documents and Settings\swelch\Desktop\nsflogo.gif"/>
          <p:cNvPicPr/>
          <p:nvPr/>
        </p:nvPicPr>
        <p:blipFill>
          <a:blip r:embed="rId2"/>
          <a:stretch/>
        </p:blipFill>
        <p:spPr>
          <a:xfrm>
            <a:off x="7010280" y="48006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ng child through older adul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Famil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Children/youth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utside formal school activit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dults/paren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fe-long learn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F68A-61D1-4115-9731-2BB17733154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C:\Documents and Settings\swelch\Desktop\nsflogo.gif"/>
          <p:cNvPicPr/>
          <p:nvPr/>
        </p:nvPicPr>
        <p:blipFill>
          <a:blip r:embed="rId2"/>
          <a:stretch/>
        </p:blipFill>
        <p:spPr>
          <a:xfrm>
            <a:off x="6705720" y="45720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hibitions (permanent, travel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levision &amp; Radio Series; Fil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b based; Cyberlear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th &amp; Community-based Programs; Citizen Science Progra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xed compon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1B61-3B8F-47EF-A537-729C3E4EFE0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C:\Documents and Settings\swelch\Desktop\nsflogo.gif"/>
          <p:cNvPicPr/>
          <p:nvPr/>
        </p:nvPicPr>
        <p:blipFill>
          <a:blip r:embed="rId2"/>
          <a:stretch/>
        </p:blipFill>
        <p:spPr>
          <a:xfrm>
            <a:off x="6705720" y="45720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posal submitted by  currently funded NSF Researcher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oader dissemination of research finding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mote interest/engagement of public in STEM lear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        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elch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E22C-40FC-4E64-8CDD-699EA1492B4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1" name="Title 4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717040" cy="13413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C:\Documents and Settings\swelch\Desktop\nsflogo.gif"/>
          <p:cNvPicPr/>
          <p:nvPr/>
        </p:nvPicPr>
        <p:blipFill>
          <a:blip r:embed="rId2"/>
          <a:stretch/>
        </p:blipFill>
        <p:spPr>
          <a:xfrm>
            <a:off x="6705720" y="4572000"/>
            <a:ext cx="158112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16:55:38Z</dcterms:created>
  <dc:creator>swelch</dc:creator>
  <dc:description/>
  <dc:language>en-US</dc:language>
  <cp:lastModifiedBy>swelch</cp:lastModifiedBy>
  <dcterms:modified xsi:type="dcterms:W3CDTF">2011-09-13T20:58:22Z</dcterms:modified>
  <cp:revision>68</cp:revision>
  <dc:subject/>
  <dc:title>Informal Science  Education Program   National Science Foundation</dc:title>
</cp:coreProperties>
</file>